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9.png" ContentType="image/png"/>
  <Override PartName="/ppt/media/image22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BC8-4D6F-405A-85AF-1ED84CBA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60A-33AE-498D-AA23-73C98E01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39C-A8EA-4335-9B3F-0212669F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490-AB8C-4CF7-A544-E5F79E97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217-4DE4-4C43-BD6A-C347C446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9F0-8094-4F58-AC1E-F9FD7EEA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F75-A209-4742-8C64-69268614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04DF-7494-4BF8-A5E7-A82E4C0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2F62-1402-458B-A7D6-1BAB9461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024-3DAB-4A8A-81BA-DBED2C30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C8F7-F895-4B57-8534-2166041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10D-EEA3-424C-873C-033A3FB3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B7C9-53D6-4CCC-B1D8-5C25F34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C86A-C455-42A6-98FE-FF69F69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50F6-4B69-436A-B9A8-BDE1E29B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F2EB-F215-4AA1-A69E-49DA5EB7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CAF-1E42-4BE3-8CC6-8486F815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A02-C4B8-48CB-80A8-FF72A0FB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3BE-ADCF-42DF-A2EA-01692D55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CBD-F89B-4AE5-B6F5-5128D936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47C-FEDD-4E41-A2BC-134D1FF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15A-D9A9-48E8-B6C0-E4E19DC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EC1-CD10-4CF2-A421-41B334CD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1A4-52F5-4371-9BD4-C0D87D9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60C-2DD5-4D9A-BC81-95A1E22896E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3142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E558-2676-4485-88EE-5BE9EBC2444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olitics and Life in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 History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hapter 27-29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00400" y="15840"/>
            <a:ext cx="449568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  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585144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If Capital &amp; Labor Don’t Pull Together” – </a:t>
            </a:r>
            <a:r>
              <a:rPr b="1" i="1" lang="en-US" sz="25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5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0" r="0" b="10606"/>
          <a:stretch/>
        </p:blipFill>
        <p:spPr>
          <a:xfrm>
            <a:off x="2887560" y="762120"/>
            <a:ext cx="4808520" cy="487656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Eurostile"/>
              </a:rPr>
              <a:t>Consequences of Labor Unrest</a:t>
            </a:r>
            <a:endParaRPr b="0" lang="en-US" sz="3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61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ile We Rock the Boat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Washington Ti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0" r="0" b="12504"/>
          <a:stretch/>
        </p:blipFill>
        <p:spPr>
          <a:xfrm>
            <a:off x="304920" y="1143000"/>
            <a:ext cx="434808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2133360" cy="4038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Coal Miners’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609588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Keeping Warm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Los Angeles Times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contrast="6000"/>
          </a:blip>
          <a:srcRect l="0" t="0" r="0" b="8698"/>
          <a:stretch/>
        </p:blipFill>
        <p:spPr>
          <a:xfrm>
            <a:off x="3459240" y="914400"/>
            <a:ext cx="4008240" cy="51055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1981080" cy="2210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Eurostile"/>
              </a:rPr>
              <a:t>Steel  Strike - 1919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ming Out of the Smoke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ew York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>
            <a:lum contrast="6000"/>
          </a:blip>
          <a:srcRect l="0" t="0" r="0" b="10148"/>
          <a:stretch/>
        </p:blipFill>
        <p:spPr>
          <a:xfrm>
            <a:off x="3100320" y="990720"/>
            <a:ext cx="47484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0" t="0" r="0" b="10670"/>
          <a:stretch/>
        </p:blipFill>
        <p:spPr>
          <a:xfrm>
            <a:off x="1600200" y="685800"/>
            <a:ext cx="571500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19" name=""/>
          <p:cNvSpPr/>
          <p:nvPr/>
        </p:nvSpPr>
        <p:spPr>
          <a:xfrm>
            <a:off x="1828800" y="57913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He gives aid &amp; comfort to the enemies of society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76320"/>
            <a:ext cx="64771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16256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Boston Police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>
            <a:lum contrast="6000"/>
          </a:blip>
          <a:srcRect l="0" t="0" r="639" b="10000"/>
          <a:stretch/>
        </p:blipFill>
        <p:spPr>
          <a:xfrm>
            <a:off x="3135240" y="1143000"/>
            <a:ext cx="471348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1752480" y="6064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Striking Back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New York Evening World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to ‘Normalcy’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Kellogg-Briand Pac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ernational agreement against using war as an instrument of national polic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mall proble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 way to enfor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mmigration Quota System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mit the maximum number of people allowed to enter US by foreign country (changes from year to year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mmigration Chan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09200" y="2170080"/>
            <a:ext cx="209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ed = North/We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Blue = South/Ea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usiness of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ved road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rban spraw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dependence and economic rev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lectric Convenien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dios ($75), washing machine ($150), sewing machine ($60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vertising, credit, and consumer choi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ord Model T and Model 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476440" cy="1619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147680" y="472428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15 million produc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4761000"/>
            <a:ext cx="26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2 million people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Viewed in NY on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rst da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ttitudes of Post-War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newed isolatio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suspicion of foreign-born peop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political conservatism ( return to traditional valu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urning away from progressive refor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ear of Commu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mmunism – an economic and political system that advocates a single political party and state ownership of proper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85800" y="930240"/>
            <a:ext cx="7772400" cy="484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93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he Prohibition Experiment</a:t>
            </a:r>
            <a:br>
              <a:rPr sz="4000"/>
            </a:b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1920-1933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Various religious groups thought alcohol was sinfu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ed to protect the public’s health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cohol leads to crime, domestic abuse, and job issu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ativism – against foreign born brewers and immigrants that used alcoh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idespread disregard for the law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creased smuggling and bootlegg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w source of criminal inco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irth of organized cri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hibi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287360" y="1981080"/>
            <a:ext cx="2605320" cy="4114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510000" cy="2614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Twenties Wom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hio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at do clothing styles reflect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moking, dancing, and drin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rriag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irth Control – Margaret Sang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10 million women workers (24% of the tot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wenties Fash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04840" y="2139840"/>
            <a:ext cx="2971800" cy="3797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istory Repeats Itsel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rents feel their children are staying out too la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rime is on the ri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runkenness is a serious probl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risking their savings on stock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spending money on things they don’t ne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spend too much time listening to musi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don’t spend enough time on schoolwor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omen spend less time at home being wives and mother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are going out in cars and it is unsaf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oday’s new music is terrible and ruining young peop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ice” girls shouldn’t smoke, wear tight clothes or drin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tertainment of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ports Hero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aseball – Babe Ruth (60 HR in 1927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oxing – Jack Dempsey vs. Gene Tunney (150,000 viewer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otball – Notre Dame &amp; Knute Rockne (Five undefeated season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wimming – Gertrude Ederle – first woman to swim the English Chann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unney vs. Demps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3880" y="1479600"/>
            <a:ext cx="6216840" cy="537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Entertain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harles Lindbergh’s Flight – first nonstop solo flight across the Atlantic (34 hours = $25,000 priz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ies – from silent to sound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ic &amp; Litera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orge Gershwin – compos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lair Lewis – first American Nobel Prize for literatu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rnest Hemingwa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wspapers and weekly magazines (Time, Reader’s Dige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25780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The “Red Scare”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at a Year Has Brought Forth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Y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>
            <a:lum contrast="6000"/>
          </a:blip>
          <a:srcRect l="0" t="0" r="0" b="9524"/>
          <a:stretch/>
        </p:blipFill>
        <p:spPr>
          <a:xfrm>
            <a:off x="3276720" y="1295280"/>
            <a:ext cx="418932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The Movie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new culture of youth and celebrity emerged with the popularity of the movie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2584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 The Mov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udolph Valentino and Clara Bow- two sex symbols and film icons of the Jazz Age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975040" cy="3602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333440" y="1981080"/>
            <a:ext cx="2908440" cy="3602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Radi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s the popularity of radio expanded, advertisers began sponsoring radio shows to appeal to consumer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y the end of the decade, 40% of homes had radio receivers. 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182760" cy="478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Mass Culture: Music and the Music Industry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3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 America developed mass culture through film, advertising, and radio, previously isolated musical styles blended to produce lively and often rebellious radio hit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343400" cy="374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frican-Americ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y the end of the 1920’s almost five million African-Americans lived in cities (40%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uge numbers of race riots (25 in 1919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s – NAACP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test racial viol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mote legislation to protect African-American righ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039680" y="609480"/>
            <a:ext cx="706284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rcus Garv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unded Universal Negro Improvement Associ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mote African-American busines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pport a ‘Back to Africa’ mov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lack Star Lin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lonize a n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nvicted of mail fraud and jail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egacy =  black pride, economic independence and reverence for Afric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arlem Renaissa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terary and artistic movement celebrating African-American cul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y Harle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Mix of southerners, West Indies, Cuba, Puerto Rico, and Haiti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orld’s largest black urban commun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Key figur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laude McKay – militant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angston Hughes –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ouis Armstrong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uke Ellington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cience vs. Relig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damentalism – literal interpretation of the Bi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am &amp; Eve or a Monkey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olu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rea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Scopes Tria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ayton, Tennesse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Defenda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981160" y="198108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8229600" cy="974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Red Scare” -- Anti-Communis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743440"/>
            <a:ext cx="662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Put Them Out &amp; Keep Them Out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Philadelphia Inquirer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>
            <a:lum contrast="6000"/>
          </a:blip>
          <a:srcRect l="0" t="0" r="0" b="13846"/>
          <a:stretch/>
        </p:blipFill>
        <p:spPr>
          <a:xfrm>
            <a:off x="380880" y="1219320"/>
            <a:ext cx="4648320" cy="45590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Lawye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52640" y="1981080"/>
            <a:ext cx="5237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Outcom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opes – Guilty $100 fi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rrow wins verbal war by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king Bryan if God created the world in 6 days (as we know a day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ryan’s answer cast doubt on the length of the day (which weakens the fundamentalist argument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920s Re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acco &amp; Vanzetti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auses/Effects of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s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rlem Renaiss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damental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opes Tr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7315200" cy="503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cc3300"/>
                </a:solidFill>
                <a:latin typeface="Eurostile"/>
              </a:rPr>
              <a:t>Red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Scare” – Palmer Raid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6172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. Mitchell Palmer’s Home Bombed, 192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lum contrast="6000"/>
          </a:blip>
          <a:srcRect l="0" t="0" r="0" b="11594"/>
          <a:stretch/>
        </p:blipFill>
        <p:spPr>
          <a:xfrm>
            <a:off x="3581280" y="990720"/>
            <a:ext cx="35928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of the Kl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1924 membership = 4.5 mill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elief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Keep “blacks in their place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rive Catholics, Jews, and foreign-born out of the count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nforce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pose labor un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2927160" cy="548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43040" y="182556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Picnic with the Kl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Milwauk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38098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2971800"/>
            <a:ext cx="274320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We promise a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hot” lunch!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495680" y="609480"/>
            <a:ext cx="3924360" cy="2857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17680" y="990720"/>
            <a:ext cx="31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Welcome no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to a Madison, W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African-Americ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832120" cy="2361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733920" y="1523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02520" y="431316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mic Sans MS"/>
              </a:rPr>
              <a:t>What is the symbolis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51814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ti-Labor Mov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ecline in Union Membersh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ons tied to Communist beliefs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ise in im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ement from rural area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clusion of African-America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0:35:47Z</dcterms:created>
  <dc:creator> </dc:creator>
  <dc:description/>
  <dc:language>en-US</dc:language>
  <cp:lastModifiedBy>School District U46</cp:lastModifiedBy>
  <dcterms:modified xsi:type="dcterms:W3CDTF">2010-11-15T12:58:08Z</dcterms:modified>
  <cp:revision>20</cp:revision>
  <dc:subject/>
  <dc:title>Politics and Life in the 1920’s</dc:title>
</cp:coreProperties>
</file>